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8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19C1-FD77-458F-A9B6-754CC1548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008-47F9-48B8-89E4-CE06E000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CC68-FA50-4176-A6A0-AE6762CB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C3Cause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CCA-8606-441F-BF08-A8E73E60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eplicationshm.wikispaces.com/Replication+Mal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:  usually errors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mutations caused by: radiation, cigarette smok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0CA0-8A4A-4D72-BC21-BF875BB1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5527-CA74-4F47-87B9-B298580F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olguze.com/text/442-2-mutation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EB5A-1301-42B2-B1B7-4E4212EA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about-cf/what-is-cystic-fibr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B6CC-2776-4336-9B30-D5BABB2C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singlegene/sicklecel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CC30-DCA3-4520-AD8C-546AAECA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FC9D-55FD-4C6F-83B0-77BB5BCC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nnynj.com/lactose-intolerance-mil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147-F9F0-4ADC-BF65-FC549F7C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12C-E132-4A3D-B302-932CE8F43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1F7B-1AF8-4A87-B619-1997D25F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ell.sio2.be/moyens/images/acetabulari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FDE-BFAE-4133-BBE2-D198D891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right: http://uoitbiology12u2014.weebly.com/uploads/2/5/8/3/25832527/2416889.png?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left from: https://commons.wikimedia.org/wiki/File:Acetabularia_Schema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DD0-11C7-4CFA-A512-F2786251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ehistoryblog.com/archives/251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B0D-EE8D-4414-BA17-E39AF55F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C8C-5104-4763-9867-3B84B4AC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5C2-69D3-416B-BC11-251542BD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nanews.blogspot.ca/2013/04/what-is-three-parts-of-nucleot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9B3-F4E4-4419-B889-AD09115E1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hopkinsville.kctcs.edu/instructors/Jason-Arnold/VLI/VLI/VLI818/M1SCINCE%20BIOCHEMMOLCULES/Modules/m1chem/m1chem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4D14-B2A7-4BFC-92E6-2B591EAF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ulgaire.com/dna-mut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BE5-3687-46BE-94A9-F3329BDC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6F8-9885-4111-AA98-1E3FD5CC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7AF-E49B-47E3-A239-DC812DDE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020-77EA-4BEE-B4B0-E43BEA6D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522-B8F2-4E1A-924A-7282BCE1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CAA-FA08-4D0E-9979-F28F3A6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922-D380-4A18-9D57-2759442F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246-2AC2-4197-B1B6-6A9C763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D9B-9AA2-4599-A303-E4CB66F9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57E-6101-47B2-B42D-2EED023F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01B-ACBA-4B96-90AE-8E00A60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397-1A4B-4AB9-B6B0-4761E48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F759-ABF5-4D6F-AC8C-6201CC261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na-mutation"/>
          <p:cNvPicPr/>
          <p:nvPr/>
        </p:nvPicPr>
        <p:blipFill>
          <a:blip r:embed="rId1"/>
          <a:stretch/>
        </p:blipFill>
        <p:spPr>
          <a:xfrm>
            <a:off x="685800" y="2681280"/>
            <a:ext cx="7848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cause mu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NA_UV_mutation"/>
          <p:cNvPicPr/>
          <p:nvPr/>
        </p:nvPicPr>
        <p:blipFill>
          <a:blip r:embed="rId1"/>
          <a:stretch/>
        </p:blipFill>
        <p:spPr>
          <a:xfrm>
            <a:off x="3886200" y="2244600"/>
            <a:ext cx="4648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bstitutions, insertions, del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disjunction; large-scale deletions, insertions, inversions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utations"/>
          <p:cNvPicPr/>
          <p:nvPr/>
        </p:nvPicPr>
        <p:blipFill>
          <a:blip r:embed="rId1"/>
          <a:stretch/>
        </p:blipFill>
        <p:spPr>
          <a:xfrm>
            <a:off x="685800" y="1044720"/>
            <a:ext cx="77724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utations of CFTR gene (on chromosome 7) cause cystic fibr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AboutCF-Chart-ENG2-300x262"/>
          <p:cNvPicPr/>
          <p:nvPr/>
        </p:nvPicPr>
        <p:blipFill>
          <a:blip r:embed="rId1"/>
          <a:stretch/>
        </p:blipFill>
        <p:spPr>
          <a:xfrm>
            <a:off x="4495680" y="2179800"/>
            <a:ext cx="4343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a single point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sicklecell"/>
          <p:cNvPicPr/>
          <p:nvPr/>
        </p:nvPicPr>
        <p:blipFill>
          <a:blip r:embed="rId1"/>
          <a:stretch/>
        </p:blipFill>
        <p:spPr>
          <a:xfrm>
            <a:off x="5108400" y="1523880"/>
            <a:ext cx="273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ia &amp; 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10" descr="issue14evolution7_large.jpg"/>
          <p:cNvPicPr/>
          <p:nvPr/>
        </p:nvPicPr>
        <p:blipFill>
          <a:blip r:embed="rId1"/>
          <a:srcRect l="1868" t="0" r="1868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ose In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act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a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is on chromosom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actose+by+Jessie"/>
          <p:cNvPicPr/>
          <p:nvPr/>
        </p:nvPicPr>
        <p:blipFill>
          <a:blip r:embed="rId1"/>
          <a:stretch/>
        </p:blipFill>
        <p:spPr>
          <a:xfrm>
            <a:off x="4191120" y="2108160"/>
            <a:ext cx="4572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5% of adults decrease the production of the enzyme lactase after weaning, i.e. they become 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oler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und at higher frequencies in Europeans, and some African, Middle Eastern and South Asia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Screen Shot 2016-10-20 at 11.31.16 PM.png"/>
          <p:cNvPicPr/>
          <p:nvPr/>
        </p:nvPicPr>
        <p:blipFill>
          <a:blip r:embed="rId1"/>
          <a:srcRect l="0" t="-11162" r="0" b="-11162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&amp; Func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cientists were involved in determining the function of DNA, isolating it, and determining it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can be helpful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resistance"/>
          <p:cNvPicPr/>
          <p:nvPr/>
        </p:nvPicPr>
        <p:blipFill>
          <a:blip r:embed="rId1"/>
          <a:stretch/>
        </p:blipFill>
        <p:spPr>
          <a:xfrm>
            <a:off x="685800" y="2655720"/>
            <a:ext cx="777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ammer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ish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experiment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large single-celled alga in the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5" descr="acetabularia.jpg"/>
          <p:cNvPicPr/>
          <p:nvPr/>
        </p:nvPicPr>
        <p:blipFill>
          <a:blip r:embed="rId1"/>
          <a:srcRect l="7175" t="0" r="7175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mer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6" descr="2416889.png"/>
          <p:cNvPicPr/>
          <p:nvPr/>
        </p:nvPicPr>
        <p:blipFill>
          <a:blip r:embed="rId1"/>
          <a:srcRect l="-6548" t="0" r="-654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7" descr="177px-Acetabularia_Schema.svg.png"/>
          <p:cNvPicPr/>
          <p:nvPr/>
        </p:nvPicPr>
        <p:blipFill>
          <a:blip r:embed="rId2"/>
          <a:srcRect l="0" t="-17274" r="0" b="-17274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53, James Watson and Francis Crick proposed a model of DNA with a double helix and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Watson-Crick-DNA-model-200x200.jpg"/>
          <p:cNvPicPr/>
          <p:nvPr/>
        </p:nvPicPr>
        <p:blipFill>
          <a:blip r:embed="rId1"/>
          <a:srcRect l="0" t="-3987" r="0" b="-39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oublehelix"/>
          <p:cNvPicPr/>
          <p:nvPr/>
        </p:nvPicPr>
        <p:blipFill>
          <a:blip r:embed="rId1"/>
          <a:stretch/>
        </p:blipFill>
        <p:spPr>
          <a:xfrm>
            <a:off x="2131920" y="1600200"/>
            <a:ext cx="480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hree parts of nucleotide"/>
          <p:cNvPicPr/>
          <p:nvPr/>
        </p:nvPicPr>
        <p:blipFill>
          <a:blip r:embed="rId1"/>
          <a:stretch/>
        </p:blipFill>
        <p:spPr>
          <a:xfrm>
            <a:off x="1895400" y="1981080"/>
            <a:ext cx="535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3-20b_dna_and_rna_stru_c"/>
          <p:cNvPicPr/>
          <p:nvPr/>
        </p:nvPicPr>
        <p:blipFill>
          <a:blip r:embed="rId1"/>
          <a:stretch/>
        </p:blipFill>
        <p:spPr>
          <a:xfrm>
            <a:off x="1492200" y="1600200"/>
            <a:ext cx="615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6-10-21T03:42:56Z</dcterms:modified>
  <cp:revision>179</cp:revision>
  <dc:subject/>
  <dc:title>Molecular Genetics</dc:title>
</cp:coreProperties>
</file>